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3F6-3462-4DA5-8A8C-77668A57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916-4682-4921-9D66-4F23A2D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9C1-5DC9-41CE-B191-AA58E528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4A1-F479-4CE2-BFA6-34972D4D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643-6A02-4545-BECF-3BB0300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13B-A273-4D35-A849-A1BB2D31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E97-C098-41CA-8CAD-57A376E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26F-676A-4049-9550-78A99B99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273-875A-4EF8-80E5-C827C666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973-047D-4E0D-AF17-DAF32DB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482-8CBE-4CC7-80EA-47CD7900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49-C5F2-4267-B3C2-DB85124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BAD69-E72C-4106-8ED5-0417EE364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A94ED-864F-4315-8E3F-0EA797C54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0:42:25Z</dcterms:created>
  <dc:creator>Caroline Roth</dc:creator>
  <dc:description/>
  <dc:language>en-US</dc:language>
  <cp:lastModifiedBy>Caroline Roth</cp:lastModifiedBy>
  <cp:lastPrinted>2011-02-10T03:42:45Z</cp:lastPrinted>
  <dcterms:modified xsi:type="dcterms:W3CDTF">2011-02-22T00:27:16Z</dcterms:modified>
  <cp:revision>4</cp:revision>
  <dc:subject/>
  <dc:title>Slide 1</dc:title>
</cp:coreProperties>
</file>